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852-EB0E-4922-828C-1818253D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08B-40F3-4ED9-81A5-B1C51C7C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A03-0BBB-4BF3-B2C2-8C3EC6D5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562-9F04-4080-A8C9-4A0ADB75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EC91-7100-4B3A-86FB-19E339C5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F690-37E4-49A6-A898-E702C34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879C-0D6A-4C65-8B21-566C5FA7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484A-49E8-48BF-8A58-51537A0B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60EC-E2D6-42ED-896C-D7505111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B177-EF36-4A3C-8B08-6CB43129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35C0-C998-4D57-BA2B-9BB2F60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DAA-5843-4B43-AF96-8F5C70C4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3F0D-E72C-4096-A528-B851790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3FA9-E09F-4D7E-A98D-FA9F77BB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5492-13D4-4310-8E2C-DFAEFA70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0C41-4C79-4DBC-B246-755F94E4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1D6E-A5C4-4264-B8D5-969AD2AD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9EB-6E2E-4388-A1A0-04F3F657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545-0B6A-4063-AC26-3EC994DA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BD4-A0AB-4006-B467-0E9D246A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749-C132-4372-AB39-00C8748A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146-16A3-4055-935C-D9CDAF62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1D3-4A99-4AFE-A750-08B7C1BE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AFE-B088-48AA-A4CE-5D567571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AA5C-866C-45BF-BEF1-1211099C23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5327-B4BE-4D67-A744-825966FE53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arlophone" TargetMode="External"/><Relationship Id="rId2" Type="http://schemas.openxmlformats.org/officeDocument/2006/relationships/hyperlink" Target="http://en.wikipedia.org/wiki/HMV" TargetMode="External"/><Relationship Id="rId3" Type="http://schemas.openxmlformats.org/officeDocument/2006/relationships/hyperlink" Target="http://en.wikipedia.org/wiki/Columbia_Graphophone_Company" TargetMode="External"/><Relationship Id="rId4" Type="http://schemas.openxmlformats.org/officeDocument/2006/relationships/hyperlink" Target="http://en.wikipedia.org/wiki/Columbia_Graphophone_Company" TargetMode="External"/><Relationship Id="rId5" Type="http://schemas.openxmlformats.org/officeDocument/2006/relationships/hyperlink" Target="http://en.wikipedia.org/wiki/The_Beatles" TargetMode="External"/><Relationship Id="rId6" Type="http://schemas.openxmlformats.org/officeDocument/2006/relationships/hyperlink" Target="http://en.wikipedia.org/wiki/The_Beach_Boys" TargetMode="External"/><Relationship Id="rId7" Type="http://schemas.openxmlformats.org/officeDocument/2006/relationships/hyperlink" Target="http://en.wikipedia.org/wiki/The_Hollies" TargetMode="External"/><Relationship Id="rId8" Type="http://schemas.openxmlformats.org/officeDocument/2006/relationships/hyperlink" Target="http://en.wikipedia.org/wiki/Cilla_Black" TargetMode="External"/><Relationship Id="rId9" Type="http://schemas.openxmlformats.org/officeDocument/2006/relationships/hyperlink" Target="http://en.wikipedia.org/wiki/Cilla_Black" TargetMode="External"/><Relationship Id="rId10" Type="http://schemas.openxmlformats.org/officeDocument/2006/relationships/hyperlink" Target="http://en.wikipedia.org/wiki/Pink_Floyd" TargetMode="External"/><Relationship Id="rId1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obbie_Williams" TargetMode="External"/><Relationship Id="rId2" Type="http://schemas.openxmlformats.org/officeDocument/2006/relationships/hyperlink" Target="http://en.wikipedia.org/wiki/Warner_Music_Group" TargetMode="External"/><Relationship Id="rId3" Type="http://schemas.openxmlformats.org/officeDocument/2006/relationships/hyperlink" Target="http://en.wikipedia.org/wiki/Big_four_record_labels" TargetMode="External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cord_label" TargetMode="External"/><Relationship Id="rId2" Type="http://schemas.openxmlformats.org/officeDocument/2006/relationships/hyperlink" Target="http://en.wikipedia.org/wiki/Major_record_labels" TargetMode="External"/><Relationship Id="rId3" Type="http://schemas.openxmlformats.org/officeDocument/2006/relationships/hyperlink" Target="http://images.google.com/imgres?imgurl=http://www.bounceclothing.com/images/uploaded/Def_Jam_Logo.jpg&amp;imgrefurl=http://haciendaglobalent.com/Our_Services.html&amp;usg=__xTttA8_3CMGoJhFTXUkH4jfRXv0=&amp;h=173&amp;w=269&amp;sz=7&amp;hl=EN&amp;start=1&amp;tbnid=9iJvG4wUV_ZD2M:&amp;tbnh=73&amp;tbnw=113&amp;prev=/images%3Fq%3DDef%2Bjam%2Blogo%26gbv%3D2%26hl%3DEN%26safe%3Dactive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serserve-ak.last.fm/serve/252/10908537.jpg&amp;imgrefurl=http://www.last.fm/label/Roc-a-Fella%2BRecords&amp;usg=__u7Lc2IqQ7DMgE41MXOt3O6GR-fQ=&amp;h=371&amp;w=252&amp;sz=47&amp;hl=en&amp;start=17&amp;tbnid=Vh7DP0kpIpn_kM:&amp;tbnh=122&amp;tbnw=83&amp;prev=/images%3Fq%3DRoc%2Ba%2Bfella%2Blabel%26hl%3Den%26safe%3Dactive%26rlz%3D1T4WDIA_enGB315GB243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.uk/imgres?imgurl=http://edge3.dealsdirect.net/images/products/18736/1/product1_18736.jpg&amp;imgrefurl=http://www.dealsdirect.com.au/p/def-jam-icon-ps3/&amp;usg=__8sUfTQRnSV8ttbQhXNypFJOSpbs=&amp;h=300&amp;w=300&amp;sz=20&amp;hl=en&amp;start=1&amp;tbnid=v3jLx5CqqSZMMM:&amp;tbnh=116&amp;tbnw=116&amp;prev=/images%3Fq%3DRoc%2Bjam%2Bicon%26hl%3Den%26safe%3Dactive%26rlz%3D1T4WDIA_enGB315GB243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co.uk/imgres?imgurl=http://images.tvrage.net/shows/4/3274.jpg&amp;imgrefurl=http://www.tvrage.com/shows/id-3274&amp;usg=__h1XCT2KNGZ2f9uasvzLe8V9u9pw=&amp;h=212&amp;w=213&amp;sz=31&amp;hl=en&amp;start=5&amp;tbnid=u-QxWoUGf6dxHM:&amp;tbnh=106&amp;tbnw=106&amp;prev=/images%3Fq%3DDef%2Bcomedy%2Bjam%26hl%3Den%26safe%3Dactive%26rlz%3D1T4WDIA_enGB315GB243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1.bp.blogspot.com/_cb4O2RHnRRw/SNouto4Wd6I/AAAAAAAAAkI/c2aNu9Kqysk/s400/kanye_west1_300_400.jpg&amp;imgrefurl=http://musicforecast.blogspot.com/&amp;usg=__zT6jlnUOY2eJWJRIcgfcOOEx138=&amp;h=400&amp;w=300&amp;sz=35&amp;hl=en&amp;start=1&amp;um=1&amp;tbnid=VeNjd0Nnh73zTM:&amp;tbnh=124&amp;tbnw=93&amp;prev=/images%3Fq%3DKanye%2BWest%26um%3D1%26hl%3Den%26safe%3Dactive%26rlz%3D1T4WDIA_enGB315GB243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.uk/imgres?imgurl=http://www.rocklibrary.com/images/EntityImages/2100/2134/LL%2520Cool%2520J1.jpg&amp;imgrefurl=http://www.rocklibrary.com/Library/Entity.aspx%3Fid%3Db73dba98-ab0e-4379-adc3-30b2bbde0b59&amp;usg=__I5qE4RL-VpXX1uKOflHvEJe04QQ=&amp;h=369&amp;w=300&amp;sz=13&amp;hl=en&amp;start=7&amp;um=1&amp;tbnid=4WbxU8UQYlm2fM:&amp;tbnh=122&amp;tbnw=99&amp;prev=/images%3Fq%3DLL%2BCool%2BJ%26um%3D1%26hl%3Den%26safe%3Dactive%26rlz%3D1T4WDIA_enGB315GB243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.uk/imgres?imgurl=http://nativeson.files.wordpress.com/2008/02/nas.jpg&amp;imgrefurl=http://nativeson.wordpress.com/2008/02/11/another-hip-hop-artist-falls-victim-to-cultural-conditioning/&amp;usg=__gP_RD8vWjNehm4wMp30DX_1ZLWM=&amp;h=600&amp;w=412&amp;sz=71&amp;hl=en&amp;start=4&amp;tbnid=JcnfcnH26eNjrM:&amp;tbnh=135&amp;tbnw=93&amp;prev=/images%3Fq%3DNas%26hl%3Den%26safe%3Dactive%26rlz%3D1T4WDIA_enGB315GB243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.uk/imgres?imgurl=http://snicka.com/blog/wp-content/uploads/2008/06/young_jeezy_802349.jpg&amp;imgrefurl=http://snicka.com/category/shawty-lo/&amp;usg=__BQxd3Snng6VR9hHgzimkKw5awQc=&amp;h=601&amp;w=400&amp;sz=53&amp;hl=en&amp;start=3&amp;tbnid=VNgWbciSPeq2zM:&amp;tbnh=135&amp;tbnw=90&amp;prev=/images%3Fq%3DYoung%2BJeezy%26hl%3Den%26safe%3Dactive%26rlz%3D1T4WDIA_enGB315GB243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.uk/imgres?imgurl=http://musicremedy.com/webfiles/artists/RickRoss/RickRoss-03-big.jpg&amp;imgrefurl=http://musicremedy.com/r/Rick_Ross/&amp;usg=__XQwkp_WFqP3VVSoLuO_qKGrZw3o=&amp;h=565&amp;w=450&amp;sz=64&amp;hl=en&amp;start=1&amp;tbnid=OlWltG9c9UQE-M:&amp;tbnh=134&amp;tbnw=107&amp;prev=/images%3Fq%3Drick%2BRoss%26hl%3Den%26safe%3Dactive%26rlz%3D1T4WDIA_enGB315GB243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.uk/imgres?imgurl=http://www1.pictures.gi.zimbio.com/MOBO%2BAwards%2BLaunch%2BMovida%2BB2xvZtuydm2l.jpg&amp;imgrefurl=http://www.zimbio.com/pictures/7o6m4pBpTJ3/MOBO%2BAwards%2BLaunch%2BMovida/B2xvZtuydm2/Rhianna&amp;usg=__Em4jSBeF_JUI4JG_jpR4TGbtFww=&amp;h=594&amp;w=386&amp;sz=52&amp;hl=en&amp;start=7&amp;tbnid=9K9eujcDccvt3M:&amp;tbnh=135&amp;tbnw=88&amp;prev=/images%3Fq%3DRhianna%26hl%3Den%26safe%3Dactive%26rlz%3D1T4WDIA_enGB315GB243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images.google.co.uk/imgres?imgurl=http://alisbasement.files.wordpress.com/2007/04/neyo1.jpg&amp;imgrefurl=http://listentheworld.wordpress.com/2007/11/15/utada-hikaru-feat-ne-yo/&amp;usg=__BnU_9lrp74IwxuR8xNXyJ0d3cuM=&amp;h=344&amp;w=344&amp;sz=56&amp;hl=en&amp;start=1&amp;tbnid=-QkLqzuRFF_cbM:&amp;tbnh=120&amp;tbnw=120&amp;prev=/images%3Fq%3DNe%2BYo%26hl%3Den%26safe%3Dactive%26rlz%3D1T4WDIA_enGB315GB243" TargetMode="External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f/ff/EMI_logo.svg/800px-EMI_logo.svg.png&amp;imgrefurl=http://commons.wikimedia.org/wiki/File:EMI_logo.svg&amp;usg=__PrydQKdCzmtD0kUr5FgFA5I4w1E=&amp;h=387&amp;w=800&amp;sz=6&amp;hl=EN&amp;start=1&amp;tbnid=uu9ErNLWpqCLNM:&amp;tbnh=69&amp;tbnw=143&amp;prev=/images%3Fq%3DEMI%26gbv%3D2%26hl%3DEN%26safe%3Dactiv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bounceclothing.com/images/uploaded/Def_Jam_Logo.jpg&amp;imgrefurl=http://haciendaglobalent.com/Our_Services.html&amp;usg=__xTttA8_3CMGoJhFTXUkH4jfRXv0=&amp;h=173&amp;w=269&amp;sz=7&amp;hl=EN&amp;start=1&amp;tbnid=9iJvG4wUV_ZD2M:&amp;tbnh=73&amp;tbnw=113&amp;prev=/images%3Fq%3DDef%2Bjam%2Blogo%26gbv%3D2%26hl%3DEN%26safe%3Dactive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yroworldwide.com/site_images/virgin_lg.gif&amp;imgrefurl=http://www.gyroworldwide.com/case_videos.php%3Fi%3D52&amp;usg=__bqlvHbi0oBPDRE7GEAgqbJpQ9N0=&amp;h=240&amp;w=320&amp;sz=4&amp;hl=en&amp;start=1&amp;um=1&amp;tbnid=XaoeWrscgnJ7nM:&amp;tbnh=89&amp;tbnw=118&amp;prev=/images%3Fq%3Dvirgin%2Brecords%26um%3D1%26hl%3Den%26safe%3Dactive%26rls%3DSUNA,SUNA:2006-02,SUNA:en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.uk/imgres?imgurl=http://images.emiwebservices.com/Artwork/Artist/NewsImage/Thumbnail_L/921800/921821_118413.jpg&amp;imgrefurl=http://www.allaboutjazz.com/php/news.php%3Fid%3D26676&amp;usg=__F7YN2kiN6XyMyGMve0lc71n0Gxg=&amp;h=300&amp;w=300&amp;sz=26&amp;hl=en&amp;start=3&amp;um=1&amp;tbnid=fI6Tj3XXifYSIM:&amp;tbnh=116&amp;tbnw=116&amp;prev=/images%3Fq%3DBlue%2Bnote%2Brecords%26um%3D1%26hl%3Den%26safe%3Dactive%26rls%3DSUNA,SUNA:2006-02,SUNA: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.uk/imgres?imgurl=http://www.bandlink.net/label_images/parlophone_large.jpg&amp;imgrefurl=http://www.bandlink.net/labels.asp&amp;usg=__sRdF2pjD0mPQtPtNekE512312v0=&amp;h=199&amp;w=199&amp;sz=7&amp;hl=en&amp;start=7&amp;um=1&amp;tbnid=rjVSNeh5sfCkiM:&amp;tbnh=104&amp;tbnw=104&amp;prev=/images%3Fq%3DParlophone%2Brecords%26um%3D1%26hl%3Den%26safe%3Dactive%26rls%3DSUNA,SUNA:2006-02,SUNA: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.uk/imgres?imgurl=http://www.zipdj.com/upload/label/200703230001081183189068_mute.jpg&amp;imgrefurl=http://www.zipdj.com/label_public.php&amp;usg=__vDm_2NaQmywtNS5i6_CwMGXPC4Y=&amp;h=144&amp;w=144&amp;sz=5&amp;hl=en&amp;start=25&amp;um=1&amp;tbnid=ULjmytPQQ2knyM:&amp;tbnh=94&amp;tbnw=94&amp;prev=/images%3Fq%3Dmute%2Brecords%26start%3D20%26ndsp%3D20%26um%3D1%26hl%3Den%26safe%3Dactive%26rls%3DSUNA,SUNA:2006-02,SUNA:en%26sa%3D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.uk/imgres?imgurl=http://1.bp.blogspot.com/_uhE_2kugeuk/SPUUgcSUBzI/AAAAAAAAEe4/dlcayXqXOnU/s320/Gene%2BDunlap%2B-%2BParty%2BIn%2BMe%2B-%2B12%2BInch%2B(1981)%2BCapitol%2BRecords.jpg&amp;imgrefurl=http://portaldufunk.blogspot.com/2008/10/gene-dunlap-take-my-love-12-inch-1981.html&amp;usg=__j680JrcrRUq4nSpW0HX2rmSi7bc=&amp;h=316&amp;w=320&amp;sz=27&amp;hl=en&amp;start=53&amp;um=1&amp;tbnid=ut34cPpEEvmrEM:&amp;tbnh=117&amp;tbnw=118&amp;prev=/images%3Fq%3Dcapitol%2Brecords%26start%3D40%26ndsp%3D20%26um%3D1%26hl%3Den%26safe%3Dactive%26rls%3DSUNA,SUNA:2006-02,SUNA:en%26sa%3DN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evilbeetgossip.film.com/wp-content/uploads/2007/12/lily_allen.jpg&amp;imgrefurl=http://evilbeetgossip.film.com/2007/12/21/lily-allen-confirms-pregnancy-and-is-getting-her-own-tv-show/&amp;usg=__FQVYzjnXdxK3PdfgmK2fvV5D97M=&amp;h=600&amp;w=411&amp;sz=64&amp;hl=en&amp;start=2&amp;tbnid=OS27UGlQuIlSpM:&amp;tbnh=135&amp;tbnw=92&amp;prev=/images%3Fq%3Dlily%2Ballen%26gbv%3D2%26hl%3Den%26safe%3Dactive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.uk/imgres?imgurl=http://www.lullabyes.net/blog/uploaded_images/Coldplay-705392.jpg&amp;imgrefurl=http://amplifythis.blogspot.com/2008_04_01_archive.html&amp;usg=__yyydmrGK61DrsJWKnEVvv0_8ZDk=&amp;h=830&amp;w=1024&amp;sz=100&amp;hl=en&amp;start=11&amp;um=1&amp;tbnid=OK17DBuoSjYTPM:&amp;tbnh=122&amp;tbnw=150&amp;prev=/images%3Fq%3Dcoldplay%26um%3D1%26hl%3Den%26safe%3Dactive%26rlz%3D1T4WDIA_en___GB243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.uk/imgres?imgurl=http://www.jungle-life.com/media/1/gorillaz-cmyk-closeup.jpg&amp;imgrefurl=http://www.jungle-life.com/item/1053&amp;usg=__9rGlhbP8rF3vKRbkaKzk1k_cgfg=&amp;h=528&amp;w=464&amp;sz=69&amp;hl=en&amp;start=5&amp;um=1&amp;tbnid=lqKchjUE4TffFM:&amp;tbnh=132&amp;tbnw=116&amp;prev=/images%3Fq%3Dgorillaz%26um%3D1%26hl%3Den%26safe%3Dactive%26rlz%3D1T4WDIA_en___GB243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images.askmen.com/galleries/men/robbie-williams/pictures/robbie-williams-picture-5.jpg&amp;imgrefurl=http://www.askmen.com/women/galleries/men/robbie-williams/picture-5.html&amp;usg=__rdwpbNE6cTkIribgL87Q6hmuhQM=&amp;h=490&amp;w=376&amp;sz=35&amp;hl=EN&amp;start=1&amp;tbnid=VsfPaaYATkpw5M:&amp;tbnh=130&amp;tbnw=100&amp;prev=/images%3Fq%3Drobbie%2Bwilliams%26gbv%3D2%26hl%3DEN%26safe%3Dactive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www.babble.com/CS/blogs/famecrawler/2007/11/01-07/KYLIE-minogue.jpg&amp;imgrefurl=http://babble.com/CS/blogs/famecrawler/archive/2007/11/05/kylie-minogue-making-a-comeback-after-beating-breast-cancer.aspx&amp;usg=__86-SW3gHsBt0D1PmuDMJii5wf5E=&amp;h=425&amp;w=297&amp;sz=34&amp;hl=EN&amp;start=19&amp;tbnid=CRQs-oMXz0RovM:&amp;tbnh=126&amp;tbnw=88&amp;prev=/images%3Fq%3Dkylie%2Bminogue%26gbv%3D2%26hl%3DEN%26safe%3Dactive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imgsrv.957rnb.com/image/wvkl/UserFiles/Image/charles/mariah_carey.jpg&amp;imgrefurl=http://957rnb.com/pages/1999980.php&amp;usg=__OnuUFC2LrSLqI-pyXE_cw6DbNQ4=&amp;h=400&amp;w=300&amp;sz=38&amp;hl=EN&amp;start=40&amp;tbnid=sl0bpZxaSRR9tM:&amp;tbnh=124&amp;tbnw=93&amp;prev=/images%3Fq%3Dmariah%2Bcarey%26start%3D20%26gbv%3D2%26ndsp%3D20%26hl%3DEN%26safe%3Dactive%26sa%3DN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images.starpulse.com/Photos/Previews/Beenie-Man-vi01.jpg&amp;imgrefurl=http://watchstinglive.com/index.php%3Foption%3Dcom_myblog%26show%3DBeenie-Man-Live-Now.html%26Itemid%3D93&amp;usg=__EMIVVUf6a_1F7jwqE7tSbtukehI=&amp;h=551&amp;w=440&amp;sz=57&amp;hl=EN&amp;start=2&amp;tbnid=0Hk7a8iq4yPBmM:&amp;tbnh=133&amp;tbnw=106&amp;prev=/images%3Fq%3Dbeenie%2Bman%26gbv%3D2%26hl%3DEN%26safe%3Dactive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us.ent2.yimg.com/musicfinder.yahoo.com/images/yahoo/star_trak/kelis/1103_kelis_d.jpg&amp;imgrefurl=http://profile.myspace.com/index.cfm%3Ffuseaction%3Duser.viewProfile%26friendID%3D240448993&amp;usg=__mgefqQ4qyIPn7ja9LabTUh78QLg=&amp;h=399&amp;w=315&amp;sz=18&amp;hl=EN&amp;start=35&amp;tbnid=aUkt0WcrUBZypM:&amp;tbnh=124&amp;tbnw=98&amp;prev=/images%3Fq%3Dkelis%26start%3D20%26gbv%3D2%26ndsp%3D20%26hl%3DEN%26safe%3Dactive%26sa%3DN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images.google.com/imgres?imgurl=http://vibesource.files.wordpress.com/2008/05/nerd2q.png&amp;imgrefurl=http://vibesource.wordpress.com/2008/05/19/hype-williams-sees-sounds-films-nerd-movie/&amp;usg=__qUjmy9a5DvhIkuhIcEutVD3qy0s=&amp;h=400&amp;w=300&amp;sz=162&amp;hl=EN&amp;start=24&amp;tbnid=5koPmJ92rALbpM:&amp;tbnh=124&amp;tbnw=93&amp;prev=/images%3Fq%3DNERD%26start%3D20%26gbv%3D2%26ndsp%3D20%26hl%3DEN%26safe%3Dactive%26sa%3DN" TargetMode="External"/><Relationship Id="rId18" Type="http://schemas.openxmlformats.org/officeDocument/2006/relationships/image" Target="../media/image18.jpeg"/><Relationship Id="rId19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nited_Kingdom" TargetMode="External"/><Relationship Id="rId2" Type="http://schemas.openxmlformats.org/officeDocument/2006/relationships/hyperlink" Target="http://en.wikipedia.org/wiki/Columbia_Graphophone_Company" TargetMode="External"/><Relationship Id="rId3" Type="http://schemas.openxmlformats.org/officeDocument/2006/relationships/hyperlink" Target="http://en.wikipedia.org/wiki/Columbia_Graphophone_Company" TargetMode="External"/><Relationship Id="rId4" Type="http://schemas.openxmlformats.org/officeDocument/2006/relationships/hyperlink" Target="http://en.wikipedia.org/wiki/Columbia_Graphophone_Company" TargetMode="External"/><Relationship Id="rId5" Type="http://schemas.openxmlformats.org/officeDocument/2006/relationships/hyperlink" Target="http://en.wikipedia.org/wiki/Gramophone_Company" TargetMode="External"/><Relationship Id="rId6" Type="http://schemas.openxmlformats.org/officeDocument/2006/relationships/hyperlink" Target="http://en.wikipedia.org/wiki/HMV" TargetMode="External"/><Relationship Id="rId7" Type="http://schemas.openxmlformats.org/officeDocument/2006/relationships/hyperlink" Target="http://en.wikipedia.org/wiki/Abbey_Road_Studios" TargetMode="External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omework recap – in pairs discu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For a musical artist of your choice write about them, introducing them and how they have been market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ing traditional market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Or non-traditional market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Or a combination of bot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History – Key Developmen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95280" y="249228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uring the late 1950s, 1960s and early 1970s, the company enjoyed huge success. The groups and solo artists signed to EMI and its subsidiary labels -- including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Parlophon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M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Columbia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Graphophon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nd Capitol Records -- made EMI the best-known and most successful recording company in the world at that time, with a roster that included scores of major pop acts of the period including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the Beatl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the Beach Boy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the Holli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Cilla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 Blac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Pink Floy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History – Key Developmen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95280" y="213372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p star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Robbie William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igned a 6 album deal in 2002 paying him over £80 million ($157 million), which was not only the biggest recording contract in British music history, but the second biggest in music his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May 2006, EMI attempted to buy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arner Music Group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which would have reduced the world's four largest record companies (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Big Fou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to three; however, the bid was rejecte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EMI and New Media Technolog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964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99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Music's first websites went l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998: EMI streamed the first complete album over the internet, Mezzanine by Massive Attac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999: EMI was the first company to release a digital album download, David Bowie's …Hour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001: EMI launched the first internet video singl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007: EMI became the first major music company to make its music available without digital rights management (DRM) software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68360" y="404640"/>
            <a:ext cx="482472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Def Jam - Backgr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 Jam started out as an independent record label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ependent record labe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or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ie record labe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 is a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record labe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perating without the funding of or outside the organizations of the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ajor record label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owever, it was bought out by Polydor in 1994 and in 1998 it was merged into Universal music (one of the big 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the UK it is operated through the Mercury music group (another part of Univers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t has always been and still is primarily a US based hip hop lab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ounded by Rick Rubin and Russell Simmons in 198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any of the big hip hop stars of the 1980’s were signed to the label such as Public Enemy, The Beastie Boys and LL Cool 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04640"/>
            <a:ext cx="1797120" cy="11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Links with other record compani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1997 the company struck a deal with Roc-a-Fella records and made a big star out of Jay Z. Roc-A-Fella also launched the career of Kanye West. Jay Z eventually became president of Def Jam in 1999 and was so until 200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1999 Def Jam created a spin off record label called Def Soul featuring artists such as Montell Jordan, Christina Millian and Sisq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1999 it also began distributing artists on the Murder Inc label including Ja Rule and Ashan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 Jam have also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extended the bran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through the HBO Def Comedy Jam show which helped launch the career of many African American comedy performers and Def Jam:Icon PS3 ga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90560" cy="1162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75316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33360"/>
            <a:ext cx="1009800" cy="10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Def Jam Artis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850000">
            <a:off x="539640" y="1699920"/>
            <a:ext cx="1243080" cy="165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429800">
            <a:off x="6792480" y="1886040"/>
            <a:ext cx="1227240" cy="1512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1054000">
            <a:off x="1402920" y="4149360"/>
            <a:ext cx="1339920" cy="1944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27280" y="1773360"/>
            <a:ext cx="1152720" cy="1728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4149720"/>
            <a:ext cx="1381320" cy="1728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211640" y="4292640"/>
            <a:ext cx="1033560" cy="1584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572000" y="2276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Def Jam - Websit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964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website is a good example of a record label website, giving opportunity to view new videos and purchase music as MP3 files, ringtones etc. It also has a Def Jam radio st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http://www.defjam.com/site/home.ph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-458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Your Task – for Tuesday 24</a:t>
            </a:r>
            <a:r>
              <a:rPr b="0" lang="en-GB" sz="40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 Februa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 groups research one of the other big 4 companies: Universal, Sony or Warn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en investigate a smaller record label of your choos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or both your major and small company consider the following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o are they owned by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artists do they hav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is their history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 they operate in other media areas as well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is their relationship with new technology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ow do they market their artist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You will present your findings on your companies to the class in the form of a PowerPoint presentation. Do not copy and paste everything from Wikipedia – choose the key facts and then talk around them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ome sample questions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A) Discuss the issues raised by institutions’ need to target specific audiences within a media industry which you have studi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B) What effect has new technology had on media industri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) Discuss the ways in which media products are produced and distributed to audiences within a media area which you have studied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) How are media products marketed and distributed within the media industry that you have studi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E) How has the audience relationship with your media industry changed over recent years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2920" y="3409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rx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280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Marxist approac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arl Marx said that one reason the working masses (proletariat) were being controlled by the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“dominant ideology”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was through the medi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8040" y="0"/>
            <a:ext cx="1515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4716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The Music Industry </a:t>
            </a:r>
            <a:br>
              <a:rPr sz="4800"/>
            </a:b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case studies: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and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LO: To develop a detailed understanding of EMI and Def Jam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68360" y="38872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924280"/>
            <a:ext cx="2448000" cy="118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2997360"/>
            <a:ext cx="1797120" cy="11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Case Stud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2278080"/>
            <a:ext cx="8424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order to achieve success in this exam you will need to write about specific case studies in your essa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should be very familiar with at least two record companies – one 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majo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label and one 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independent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abel and the ways in which they opera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We will look at two together here and then in groups you will research into another two that you will present back to the class in the form of a PowerPoi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ulti –nationals .. A reminder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marL="75240" indent="-752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Large profits: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big four’ accounted for 71.7% of the global retail music sal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versal Music Group — 25.5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ony BMG Music Entertainment — 21.5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MI Group — 13.4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arner Music Group — 11.3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dependent labels — 28.4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51640" y="3365640"/>
            <a:ext cx="3492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8920" y="-243360"/>
            <a:ext cx="4824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EM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is one of the world's leading music companies, home to some of the most successful and best known recording artists, songwriters and music catalogu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has two operational divisions -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 Music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 Music Publish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 Musi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als with the artists and the promotion of mus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 Publish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ooks after the rights of songs. Every time a song is played on radio or used on TV for example the publishing company ensures that the artist gets paid. This is a successful source of income for the company and they look after acts on other record labels as well as their ow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is the only privately owned major music comp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EMI Record Companies Owne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have bought out and also own lots of other record compan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916800">
            <a:off x="6680160" y="2328480"/>
            <a:ext cx="2087640" cy="157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460600">
            <a:off x="468360" y="2781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2349360"/>
            <a:ext cx="1647720" cy="164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68360" y="4581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21102600">
            <a:off x="5148360" y="4508640"/>
            <a:ext cx="155556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EMI Artis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1276200" cy="1873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4941720"/>
            <a:ext cx="1866960" cy="1517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0823600">
            <a:off x="1042560" y="2637000"/>
            <a:ext cx="1582920" cy="180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596400">
            <a:off x="5724360" y="1700280"/>
            <a:ext cx="1328760" cy="1727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619200">
            <a:off x="7380360" y="4581360"/>
            <a:ext cx="1458720" cy="2089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4000" y="5013360"/>
            <a:ext cx="1188720" cy="1584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596360" y="1341360"/>
            <a:ext cx="126180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 rot="20599800">
            <a:off x="5364000" y="4076640"/>
            <a:ext cx="1308240" cy="165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059280" y="1700280"/>
            <a:ext cx="1458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History – Key Developmen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95280" y="213372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ctric and Musical Industries Lt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med in March 1931 from the merger of th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U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Columbi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Graphophon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 Compan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nd th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Gramophone Compan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famous at the time for its record label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"His Master's Voice"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From its beginning, the company was involved in both the manufacture of recording and playback equipment and the provision of music to play on its machin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1931, the year the company was formed, it opened the legendary recording studios a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Abbey Roa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Lond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I released its first LPs in 1952 and its first stereophonic recordings in 1955 (first on reel-to-reel tape and then LPs, beginning in 1958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0:35:38Z</dcterms:created>
  <dc:creator>#</dc:creator>
  <dc:description/>
  <dc:language>en-US</dc:language>
  <cp:lastModifiedBy>administrator</cp:lastModifiedBy>
  <dcterms:modified xsi:type="dcterms:W3CDTF">2010-12-08T09:53:08Z</dcterms:modified>
  <cp:revision>30</cp:revision>
  <dc:subject/>
  <dc:title>Welcome to New Media Technologies</dc:title>
</cp:coreProperties>
</file>